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CB39-5FE0-4440-99B6-A6C1E094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0A96-A4CB-4C2E-AB11-4CB05935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BD3-3B7B-42BF-96CD-99BA5577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423C-E7DA-4752-9418-E6BA1CF7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78F5-2ED2-4C0F-A847-CFA9E52F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7E8-EBB6-4272-A021-46696752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2DAE-CDC1-424E-9DA9-7D90E053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1D64-06E7-429C-9FCC-62304FF5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324-FC44-42D7-A061-D54D0046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598-E01B-4E94-B721-55CC9E1F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CFD-BA18-4AA9-B1C1-57B4728A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5DD-94C3-4604-9190-2C06444B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A167-167C-4879-829F-78C466F63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ilk_rout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SILK R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676520"/>
            <a:ext cx="693432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600"/>
            <a:ext cx="815328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lk Road came about becaus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ople wanted sil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hi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place that had silk.  Since silk w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car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 was expensive an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high demand.  Traders or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ercha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nted to make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rof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ir expeditions.  In order to make money, merchants had to sell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s at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high pri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cover the costs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ravel, transportation, tax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d prot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Along the Silk Road towns became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rade cent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wn bazaars the West trade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gold, grapes, pomegranates, wool rug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lored glass, and green and white ja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On the other hand,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ed back to the West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k, gunpow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aper, compasses, and bambo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The Sil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d went from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hang’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China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nt all the way west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editerranean Se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914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293760"/>
            <a:ext cx="8763120" cy="65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arava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groups of merchants and government officials, made their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the Silk Road.  They use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am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carry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goo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n the jour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 they coul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haul large loads and needed little w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The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vans faced many hardships on their trading journeys.  Along the Sil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d they would encounter many possible setbacks or problems, such as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weather – sandstorms, cold, rain, etc., terrain – deserts, mountains, etc.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ttacks from bandi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Caravans moved from town to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ow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ong the Sil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d.  In each town, caravans would go to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aravansera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ere th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l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tay, eat, drink, socialize, and le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heir anim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ey visited the baza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with the large amount of trad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k place along the Silk Road, there was als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 diffusion of culture.  Customs, beliefs,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life, and technology from one end of the S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d quickly spread to the other end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sandstorm"/>
          <p:cNvPicPr/>
          <p:nvPr/>
        </p:nvPicPr>
        <p:blipFill>
          <a:blip r:embed="rId1"/>
          <a:stretch/>
        </p:blipFill>
        <p:spPr>
          <a:xfrm>
            <a:off x="152280" y="3581280"/>
            <a:ext cx="33530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8:27:38Z</dcterms:created>
  <dc:creator>gehadde</dc:creator>
  <dc:description/>
  <dc:language>en-US</dc:language>
  <cp:lastModifiedBy>gehadde</cp:lastModifiedBy>
  <dcterms:modified xsi:type="dcterms:W3CDTF">2012-03-23T13:21:52Z</dcterms:modified>
  <cp:revision>14</cp:revision>
  <dc:subject/>
  <dc:title>THE SILK ROAD</dc:title>
</cp:coreProperties>
</file>